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15370"/>
        <c:axId val="91864600"/>
      </c:barChart>
      <c:catAx>
        <c:axId val="57315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4600"/>
        <c:crosses val="autoZero"/>
        <c:auto val="1"/>
        <c:lblAlgn val="ctr"/>
        <c:lblOffset val="100"/>
        <c:noMultiLvlLbl val="0"/>
      </c:catAx>
      <c:valAx>
        <c:axId val="91864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5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835-6171-4193-B052-1A4EC69B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678-C25C-47FE-A8F8-006F0081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289-3B6F-44C5-8B52-F5C6BBD6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35C-ABB9-456A-9A0D-CD640541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895-A564-4165-9FDB-094B9F0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F84-EF2A-409D-90A1-DA99F23F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12E-0D51-41AA-B715-91E752B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E76-CBBC-46A2-A90D-3CA5BD33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972-9ABE-48C8-80A4-53E64F8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044-D84D-4855-B2C6-5483CA1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894-944D-4B2A-8156-A77DA3A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1AB-DB9E-48D5-A715-333B89E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9D441-E8D7-4DBC-8F54-1F23BBB9D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