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83426"/>
        <c:axId val="47166995"/>
      </c:barChart>
      <c:catAx>
        <c:axId val="69483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66995"/>
        <c:crosses val="autoZero"/>
        <c:auto val="1"/>
        <c:lblAlgn val="ctr"/>
        <c:lblOffset val="100"/>
        <c:noMultiLvlLbl val="0"/>
      </c:catAx>
      <c:valAx>
        <c:axId val="47166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83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85B-5690-45B1-B6F5-6E8143C3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122-4890-4ACA-A7D4-39FA991B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F5A-A8E6-4A3C-8D80-32A587F8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DD0-B2E1-4C3C-A607-0F65324A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AFC-622E-49CC-8AA4-2AEBE42B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912-B837-44EF-BB2B-6F8FD29F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553-DB43-4AE8-948C-496ABB02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8BD-99CA-4189-B51E-B51C7FCF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3A8-CAE2-4EFB-B533-BB051BAF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369-9AB7-4615-B50B-85A99CD2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00C-2A0A-49C0-9670-1E460BDD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915-3454-4147-95BC-C1A43832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99C92-4E90-499F-BF31-72FC2719A3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