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56036"/>
        <c:axId val="79804477"/>
      </c:barChart>
      <c:catAx>
        <c:axId val="26256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04477"/>
        <c:crosses val="autoZero"/>
        <c:auto val="1"/>
        <c:lblAlgn val="ctr"/>
        <c:lblOffset val="100"/>
        <c:noMultiLvlLbl val="0"/>
      </c:catAx>
      <c:valAx>
        <c:axId val="79804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56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E6F-E2A9-4960-B427-8B26399A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550-0341-402B-9B68-4F566584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9E9-78BA-4F40-89CC-FF4B6064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7E3-AAF1-402D-99AB-A6654B68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1DC-9209-4886-8C1F-34014630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FAC-CBFE-425A-96C0-DE3819C9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F76-4C2E-4EE7-A86B-8CAF50AE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C61-9A14-4296-9AF9-E04C3B56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491-030A-4409-BDE0-63BBB3AA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332-FB97-4C2E-86E5-477EA436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37C-469E-40F2-A1F7-5EF822BA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BF8-6547-4659-BE84-628DB2D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F879A-93D2-4734-A443-094C6CDF1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