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93849"/>
        <c:axId val="26041862"/>
      </c:barChart>
      <c:catAx>
        <c:axId val="28693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41862"/>
        <c:crosses val="autoZero"/>
        <c:auto val="1"/>
        <c:lblAlgn val="ctr"/>
        <c:lblOffset val="100"/>
        <c:noMultiLvlLbl val="0"/>
      </c:catAx>
      <c:valAx>
        <c:axId val="26041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93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8E5-1172-4E29-8BAF-952DE568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C61-31D2-41F6-A49B-B21E453E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0A7-A3A2-4ADF-99A4-E7008C3C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CDB-A0B8-4290-B322-7F78AD91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870-0C09-429E-B475-2A737E4E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ADF-210E-470A-8D6D-6F883F66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851-3127-4C1B-8126-728E283F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8DC-7D26-4DD1-822E-ACC2076A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ED5-2490-4E93-BDE0-EC884718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B5C-0CF7-480F-AFB8-B47C95BE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B4B-61F2-48A4-B2A5-83534434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332-8CF7-45A7-BA41-555C97AC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99498-66E6-4679-BFCD-9C41858331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